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AC51-6070-4EC1-B5E0-34A4DE2D4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BE95-04EC-4007-B548-A6DCD653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31F9-0428-4C52-89F0-2F0C8EC8E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765D-348B-4420-81C5-BD00C0FD7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AD87-A7C8-46AF-9B01-420BD898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D2D1-A571-4499-BD9A-AB6293AD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CE22-07F0-4700-AE3C-ABA664C3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9F08-F995-48D6-B8FC-A36810EA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EF22-146D-4EEB-9E75-2191954D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D020-261A-4B6C-B188-62656148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AA8A-5AB0-4E01-9D80-5903FD5C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C49D-7231-46C6-9D95-208AC6EC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8DCFEC-B719-473B-857E-D15045333E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ctions of acids: equ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417320"/>
            <a:ext cx="91440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CIDS and met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mbol eq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HCl (aq) +  Mg (s)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Mg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aq)    +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g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ionic eq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q) + 2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aq) +  Zn (s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Z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q)+ 2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aq)   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t ionic eq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q)  +  Zn (s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Z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q)  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ctions of acids: equ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417320"/>
            <a:ext cx="91440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CIDS and metal hydrox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mbol eq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Cl (aq) +  KOH (aq)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KCl (aq)    +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 (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ionic eq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q) +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q) +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aq) +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q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q)+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aq)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(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t ionic equ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aq) + O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(aq)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(l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ctions of acids: equ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417320"/>
            <a:ext cx="91440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CIDS and metal ox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mbol eq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HCl (aq) +  CuO (s)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Cu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aq)    +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 (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ionic eq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q) + 2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q) + C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+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s) +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s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q)+ 2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aq)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(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t ionic eq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aq) + O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(aq)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(l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ctions of acids: equ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417320"/>
            <a:ext cx="91440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CIDS and metal carbo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mbol eq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HCl (aq) +  CaCO (s)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Ca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aq) +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g)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(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ionic eq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q) + 2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q) + 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s) +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s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q) + 2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q)  +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g) + 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(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t ionic equ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aq) +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-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s)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(g) +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(l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4T13:38:03Z</dcterms:created>
  <dc:creator>Nico Van De Casteele</dc:creator>
  <dc:description/>
  <dc:language>en-US</dc:language>
  <cp:lastModifiedBy>Nico Van De Casteele</cp:lastModifiedBy>
  <dcterms:modified xsi:type="dcterms:W3CDTF">2014-05-05T01:12:09Z</dcterms:modified>
  <cp:revision>6</cp:revision>
  <dc:subject/>
  <dc:title>Reactions of acids: equations</dc:title>
</cp:coreProperties>
</file>